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7.gif" ContentType="image/gif"/>
  <Override PartName="/ppt/media/image18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6.gif" ContentType="image/gif"/>
  <Override PartName="/ppt/media/image14.png" ContentType="image/png"/>
  <Override PartName="/ppt/media/image5.gif" ContentType="image/gif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.jpeg" ContentType="image/jpeg"/>
  <Override PartName="/ppt/media/image4.gif" ContentType="image/gi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32148C-4AFC-4D56-8BD6-335B65BC4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9B5CCD-C12B-4584-BCBA-5C9C3DD157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426541-FABA-4870-9350-DCD9865357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A29E6B-3CED-4261-ABE7-CCC47C40F5B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D5F2FE-42E4-4BD1-B68E-39639FB6841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248A67-998E-4BED-ACEB-F461C019AF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0B921-C4E0-4354-99F3-F9D4C75B70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F3451-1F71-4189-AB77-E52E055409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3675CD-E9CA-4936-A419-ECAF451DB3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80E49F-AD70-439A-8064-B7E734DBB1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72B0A5-B40C-4E77-9CA5-BB158D6279D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CEA07-9B15-4313-95DD-E51FC7E9DE4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EB0343-0273-46BB-9D28-491A086B9CA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F02C1-CE9C-4C62-93F5-E81CCA721F7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61B-4A67-41F7-918F-6E6F382F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2C2-8613-480D-9820-947D0007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C61-AF50-47EB-88D2-3077BEEB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D3F-6FF2-4828-B501-EAB822F8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E501-C819-4FF5-9C51-EAA52D60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2916-502C-4E93-B521-7DB957D7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35B-61D3-4342-9401-1B019036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2B10-47B8-47B1-9565-609B276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C120-7912-4EA2-9B1B-C98BF86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6ABD-9A85-4EEA-BDE5-5E604A98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521E-BD1A-4740-A49A-4A34253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329-08FB-497A-8295-BA86DC0D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0D07-AA10-4DFC-9C88-445F93BA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3334-5FD2-43C8-BC68-D6B4611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9F1D-4370-44D7-B417-42DBE9B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F47E-3B3E-4EA5-A834-BECEB9FD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209D-9B79-4350-9CA4-2D6484EA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2265-C681-44E8-B0DA-7066FA11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5F12-45C2-4C38-8FE6-EB6C89DC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19DA-50A3-4E82-94E8-8C64B43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300E-E076-4FD5-A0C6-2A392D21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431A-9A66-4B9F-8BD3-2980B214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EA3-56A5-44F6-8FE6-4E3A69E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F28B-91E0-41FB-B868-BEAC7F40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5477-4B73-429B-A569-F6E3EAF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5DD2-AEC1-4815-9542-6D33A95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2BDC-B4D1-4ECE-9F47-E0B945C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3C59-2340-4BF9-B536-990699D6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C0DD-A78C-49EA-864C-1DCB7FF6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03A0-56B4-4D2E-90A5-A1112C4B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313F3-B858-4858-B4CE-8737C663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16AE-B84D-48AD-9944-EE2F4783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5A9E-A602-4412-8B38-18FFD10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EBF-CC26-42D0-9056-0BA88975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6F11-1856-407F-9669-6D5A8683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9D00-EF14-41B0-A818-E3FA9363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E9817-FEB6-430A-B714-456E392C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43BB-00BD-42B1-8CDF-0F69D044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52DD-9F01-4596-89B2-A852B29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5B3F-EE2D-4748-8A9F-8D669E8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7222-1A81-48E6-BA2E-CE5B8D5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7745-E9A3-409C-8719-BEB89633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52C3-24C3-4645-B86F-B66D1E73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A6B-974D-4B03-B9ED-1AB58457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54A-18A1-41CE-99C8-83036C2D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CAA-08C6-4D86-B0C3-1F83DEF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029-CBC8-4F53-BB7E-7490C69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4B2-0B71-474F-93FB-66794A9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23EA74-8ABC-474A-B5DD-1E00A9814F1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EC1AA1-8DC6-49F1-BDAE-19EE83CCB04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406DEB-82CE-41CD-9DEA-3FE5065C985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95C84B-E56E-4C41-A21A-28E6D3FA8E4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in/..%5CdanaTemplates%5CRI_Unit_of_Study_7.5.09_1_template93.doc" TargetMode="External"/><Relationship Id="rId2" Type="http://schemas.openxmlformats.org/officeDocument/2006/relationships/hyperlink" Target="file:///tmp/in/..%5CdanaTemplates%5CRhode+Island+Unit+of+Study+Rubric.docx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localhost/C/%5CProgram%20Files%5CMicrosoft%20Office%5CClipart%5CMMedia%5Cclock.avi" TargetMode="External"/><Relationship Id="rId2" Type="http://schemas.microsoft.com/office/2007/relationships/media" Target="file://localhost/C/%5CProgram%20Files%5CMicrosoft%20Office%5CClipart%5CMMedia%5Cclock.avi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uOoqDu2H70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oonsocket.wikispaces.com/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EFKfXiCbL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36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Welcome to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Rhode Island Teachers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Technology Initi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1" descr="logo102"/>
          <p:cNvPicPr/>
          <p:nvPr/>
        </p:nvPicPr>
        <p:blipFill>
          <a:blip r:embed="rId1"/>
          <a:srcRect l="25015" t="15998" r="25995" b="33016"/>
          <a:stretch/>
        </p:blipFill>
        <p:spPr>
          <a:xfrm>
            <a:off x="2438280" y="3200400"/>
            <a:ext cx="3733560" cy="3657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3581280" y="5029200"/>
            <a:ext cx="14475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E2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2133720" y="4114800"/>
            <a:ext cx="5028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Model Classroom G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380880" y="380880"/>
            <a:ext cx="8076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Incorporate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apturerittiwordle.JPG"/>
          <p:cNvPicPr/>
          <p:nvPr/>
        </p:nvPicPr>
        <p:blipFill>
          <a:blip r:embed="rId1"/>
          <a:stretch/>
        </p:blipFill>
        <p:spPr>
          <a:xfrm>
            <a:off x="685800" y="1447920"/>
            <a:ext cx="7972200" cy="525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rittilogo222009.gif"/>
          <p:cNvPicPr/>
          <p:nvPr/>
        </p:nvPicPr>
        <p:blipFill>
          <a:blip r:embed="rId2"/>
          <a:stretch/>
        </p:blipFill>
        <p:spPr>
          <a:xfrm>
            <a:off x="7467480" y="0"/>
            <a:ext cx="1390320" cy="14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le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What’s in it for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Program Files\Microsoft Office\MEDIA\CAGCAT10\j0234657.wmf"/>
          <p:cNvPicPr/>
          <p:nvPr/>
        </p:nvPicPr>
        <p:blipFill>
          <a:blip r:embed="rId1"/>
          <a:stretch/>
        </p:blipFill>
        <p:spPr>
          <a:xfrm>
            <a:off x="2362320" y="1828800"/>
            <a:ext cx="3962160" cy="3856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rittilogo222009.gif"/>
          <p:cNvPicPr/>
          <p:nvPr/>
        </p:nvPicPr>
        <p:blipFill>
          <a:blip r:embed="rId2"/>
          <a:stretch/>
        </p:blipFill>
        <p:spPr>
          <a:xfrm>
            <a:off x="533520" y="160920"/>
            <a:ext cx="16761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60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Equipment &amp; computers for your class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Networking with your</a:t>
            </a:r>
            <a:r>
              <a:rPr b="1" lang="en-US" sz="2800" spc="-1" strike="noStrike">
                <a:solidFill>
                  <a:srgbClr val="000066"/>
                </a:solidFill>
                <a:latin typeface="Bernard MT Condensed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pe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Access to the RI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State</a:t>
            </a: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 RIEPS/Sakai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Multiple opportunities to enhance student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A long dedicated opportunity for a rich professional development experien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2 weeks of fu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3" descr="rittilogo2009.jpg"/>
          <p:cNvPicPr/>
          <p:nvPr/>
        </p:nvPicPr>
        <p:blipFill>
          <a:blip r:embed="rId1"/>
          <a:stretch/>
        </p:blipFill>
        <p:spPr>
          <a:xfrm>
            <a:off x="7238880" y="1066680"/>
            <a:ext cx="1566360" cy="16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Comple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A completed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Bernard MT Condensed"/>
                <a:hlinkClick r:id="rId1"/>
              </a:rPr>
              <a:t>unit template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submitted within the RIEPS/ Sakai  learning sit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Bernard MT Condensed"/>
                <a:hlinkClick r:id="rId2"/>
              </a:rPr>
              <a:t>Rubric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Complete Attendance 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Unlimited fu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C:\Users\Susanne Suprock\AppData\Local\Microsoft\Windows\Temporary Internet Files\Content.IE5\33RLQAJ0\MCj04349290000[1].png"/>
          <p:cNvPicPr/>
          <p:nvPr/>
        </p:nvPicPr>
        <p:blipFill>
          <a:blip r:embed="rId3"/>
          <a:stretch/>
        </p:blipFill>
        <p:spPr>
          <a:xfrm>
            <a:off x="5867280" y="2514600"/>
            <a:ext cx="2818800" cy="281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rittilogo222009.gif"/>
          <p:cNvPicPr/>
          <p:nvPr/>
        </p:nvPicPr>
        <p:blipFill>
          <a:blip r:embed="rId4"/>
          <a:stretch/>
        </p:blipFill>
        <p:spPr>
          <a:xfrm>
            <a:off x="304920" y="0"/>
            <a:ext cx="1390320" cy="14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90"/>
                </a:solidFill>
                <a:latin typeface="Bernard MT Condensed"/>
              </a:rPr>
              <a:t>General Schedu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1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8:30 – 9:00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Arrive, Sign in Morn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9:00 – 12:00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Curriculum or Tech Time (BRE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12:00 – 12:30 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12:30 – 2:00   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Curriculum or Tech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2:00 – 2:30     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Reflection and Wrap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77120" y="3352680"/>
            <a:ext cx="199980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riverdaughter.files.wordpress.com/2009/04/the-scream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80"/>
            <a:ext cx="4559040" cy="68385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3048120" y="304920"/>
            <a:ext cx="3885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YOU WILL SURV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rittilogo2009.jpg"/>
          <p:cNvPicPr/>
          <p:nvPr/>
        </p:nvPicPr>
        <p:blipFill>
          <a:blip r:embed="rId3"/>
          <a:stretch/>
        </p:blipFill>
        <p:spPr>
          <a:xfrm>
            <a:off x="4800600" y="2057400"/>
            <a:ext cx="105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90"/>
                </a:solidFill>
                <a:latin typeface="Bernard MT Condensed"/>
              </a:rPr>
              <a:t>Meet Your Train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Tonya Curt-Hoard</a:t>
            </a: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Nancy La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Susanne Sup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Donna Hay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0560" y="3394080"/>
            <a:ext cx="2773080" cy="346356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240" cy="59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Are your students digital learner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logo102">
            <a:hlinkClick r:id="rId1"/>
          </p:cNvPr>
          <p:cNvPicPr/>
          <p:nvPr/>
        </p:nvPicPr>
        <p:blipFill>
          <a:blip r:embed="rId2"/>
          <a:srcRect l="25015" t="15995" r="25996" b="33013"/>
          <a:stretch/>
        </p:blipFill>
        <p:spPr>
          <a:xfrm>
            <a:off x="2209680" y="1752480"/>
            <a:ext cx="38858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 </a:t>
            </a: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Participant Expectation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Create a Curriculum Unit of Study or lessons within a Unit of Stu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:\Users\Susanne Suprock\AppData\Local\Microsoft\Windows\Temporary Internet Files\Content.IE5\56BA499I\MCj04151440000[1].wmf"/>
          <p:cNvPicPr/>
          <p:nvPr/>
        </p:nvPicPr>
        <p:blipFill>
          <a:blip r:embed="rId1"/>
          <a:stretch/>
        </p:blipFill>
        <p:spPr>
          <a:xfrm rot="21111000">
            <a:off x="2187720" y="3392280"/>
            <a:ext cx="1855440" cy="3047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rittilogo222009.gif"/>
          <p:cNvPicPr/>
          <p:nvPr/>
        </p:nvPicPr>
        <p:blipFill>
          <a:blip r:embed="rId2"/>
          <a:stretch/>
        </p:blipFill>
        <p:spPr>
          <a:xfrm>
            <a:off x="5334120" y="3809880"/>
            <a:ext cx="110160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That embeds student centered technology component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rittilogo222009.gif"/>
          <p:cNvPicPr/>
          <p:nvPr/>
        </p:nvPicPr>
        <p:blipFill>
          <a:blip r:embed="rId1"/>
          <a:stretch/>
        </p:blipFill>
        <p:spPr>
          <a:xfrm>
            <a:off x="152280" y="166320"/>
            <a:ext cx="1523520" cy="1580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Susanne Suprock\AppData\Local\Microsoft\Windows\Temporary Internet Files\Content.IE5\UQJ25JLL\MMj02867790000[1].gif"/>
          <p:cNvPicPr/>
          <p:nvPr/>
        </p:nvPicPr>
        <p:blipFill>
          <a:blip r:embed="rId2"/>
          <a:stretch/>
        </p:blipFill>
        <p:spPr>
          <a:xfrm>
            <a:off x="5181480" y="3935880"/>
            <a:ext cx="2819160" cy="2492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Susanne Suprock\AppData\Local\Microsoft\Windows\Temporary Internet Files\Content.IE5\UQJ25JLL\MMj03368670000[1].gif"/>
          <p:cNvPicPr/>
          <p:nvPr/>
        </p:nvPicPr>
        <p:blipFill>
          <a:blip r:embed="rId3"/>
          <a:stretch/>
        </p:blipFill>
        <p:spPr>
          <a:xfrm>
            <a:off x="533520" y="3591720"/>
            <a:ext cx="4038120" cy="16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240" cy="52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That encompasses valid instructional strategies and resear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DOK Levels of 3 &amp;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The principals of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Differentiated instr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Susanne Suprock\AppData\Local\Microsoft\Windows\Temporary Internet Files\Content.IE5\ZRWXR371\MMj03157690000[1].gif"/>
          <p:cNvPicPr/>
          <p:nvPr/>
        </p:nvPicPr>
        <p:blipFill>
          <a:blip r:embed="rId1"/>
          <a:stretch/>
        </p:blipFill>
        <p:spPr>
          <a:xfrm>
            <a:off x="3352680" y="2133720"/>
            <a:ext cx="1980720" cy="1888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rittilogo222009.gif"/>
          <p:cNvPicPr/>
          <p:nvPr/>
        </p:nvPicPr>
        <p:blipFill>
          <a:blip r:embed="rId2"/>
          <a:stretch/>
        </p:blipFill>
        <p:spPr>
          <a:xfrm>
            <a:off x="228600" y="0"/>
            <a:ext cx="949680" cy="9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24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Discover how technology can transform your classro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teach_your_children_well.jpg"/>
          <p:cNvPicPr/>
          <p:nvPr/>
        </p:nvPicPr>
        <p:blipFill>
          <a:blip r:embed="rId1"/>
          <a:stretch/>
        </p:blipFill>
        <p:spPr>
          <a:xfrm>
            <a:off x="2286000" y="2743200"/>
            <a:ext cx="489564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How do we use technology appropriately to improve student performance in standards-based classroo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To do this, you will create lessons within your unit plan that embed technology for student lea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http://pcsedu.com/blog/wp-includes/images/pcsads/DigitalMediaAds.jpg"/>
          <p:cNvPicPr/>
          <p:nvPr/>
        </p:nvPicPr>
        <p:blipFill>
          <a:blip r:embed="rId1"/>
          <a:stretch/>
        </p:blipFill>
        <p:spPr>
          <a:xfrm>
            <a:off x="2362320" y="2895480"/>
            <a:ext cx="3657240" cy="3657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rittilogo222009.gif"/>
          <p:cNvPicPr/>
          <p:nvPr/>
        </p:nvPicPr>
        <p:blipFill>
          <a:blip r:embed="rId2"/>
          <a:stretch/>
        </p:blipFill>
        <p:spPr>
          <a:xfrm>
            <a:off x="7924680" y="0"/>
            <a:ext cx="949680" cy="9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895480" y="152280"/>
            <a:ext cx="2285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000066"/>
                </a:solidFill>
                <a:latin typeface="Bernard MT Condensed"/>
              </a:rPr>
              <a:t>Ho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:\Users\Susanne Suprock\AppData\Local\Microsoft\Windows\Temporary Internet Files\Content.IE5\R86053WR\MCPE06547_0000[1].wmf"/>
          <p:cNvPicPr/>
          <p:nvPr/>
        </p:nvPicPr>
        <p:blipFill>
          <a:blip r:embed="rId1"/>
          <a:stretch/>
        </p:blipFill>
        <p:spPr>
          <a:xfrm>
            <a:off x="2514600" y="914400"/>
            <a:ext cx="2631960" cy="4876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609480" y="1143000"/>
            <a:ext cx="1904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380880" y="838080"/>
            <a:ext cx="1904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D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 </a:t>
            </a: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3 &amp;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4606920" y="3505320"/>
            <a:ext cx="4536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The Principal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10320" y="5793840"/>
            <a:ext cx="6400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Differentiated Instr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rittilogo222009.gif"/>
          <p:cNvPicPr/>
          <p:nvPr/>
        </p:nvPicPr>
        <p:blipFill>
          <a:blip r:embed="rId2"/>
          <a:stretch/>
        </p:blipFill>
        <p:spPr>
          <a:xfrm>
            <a:off x="7391520" y="0"/>
            <a:ext cx="1390320" cy="14421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5105520" y="1371600"/>
            <a:ext cx="4038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Applied Learn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6858000" y="5029200"/>
            <a:ext cx="205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0066"/>
                </a:solidFill>
                <a:latin typeface="Bernard MT Condensed"/>
              </a:rPr>
              <a:t>GLE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28600" y="3581280"/>
            <a:ext cx="2133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Blo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  <Words>301</Words>
  <Paragraphs>66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2:01:29Z</dcterms:created>
  <dc:creator>Susanne Suprock</dc:creator>
  <dc:description/>
  <dc:language>en-US</dc:language>
  <cp:lastModifiedBy>ritti</cp:lastModifiedBy>
  <dcterms:modified xsi:type="dcterms:W3CDTF">2010-07-20T02:02:54Z</dcterms:modified>
  <cp:revision>51</cp:revision>
  <dc:subject/>
  <dc:title>Welcome to Rhode Island Teachers  &amp;  Technology Initi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3</vt:r8>
  </property>
  <property fmtid="{D5CDD505-2E9C-101B-9397-08002B2CF9AE}" pid="4" name="PresentationFormat">
    <vt:lpwstr>On-screen Show (4:3)</vt:lpwstr>
  </property>
  <property fmtid="{D5CDD505-2E9C-101B-9397-08002B2CF9AE}" pid="5" name="Slides">
    <vt:r8>16</vt:r8>
  </property>
</Properties>
</file>